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D46A-7F08-4B6C-9109-F1B402C6B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5067-CD19-4D55-AA48-FF049379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D17B-371C-4F40-9AB5-56CA1CEB7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CCE3-7857-40A6-A2D9-21B71FA6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7ED6-761C-445D-BEE5-4E39021CD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F0BB-36E2-43EB-A243-FE6EF9C8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3A18-7D8E-4969-A0D1-21F60248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2336-E8A8-4DEA-BD4A-218E45CE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BE19-0E8E-4D91-9A9E-5C1B4B9EF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EC34-18F5-4CB4-A35D-73A4843D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CD90-03EC-4031-8E85-48AB7E9E0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9804-0A40-47A3-BFFD-0C813AF61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4f81bd"/>
                </a:solidFill>
                <a:latin typeface="Calibri"/>
              </a:rPr>
              <a:t>Click to edit the title text format</a:t>
            </a:r>
            <a:endParaRPr b="1" lang="en-US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10253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10253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0253f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EA4C-563E-464A-AD9B-F78711FC612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706320" y="4237200"/>
            <a:ext cx="7785360" cy="26938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3643200"/>
            <a:ext cx="822960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еречислите корни с  чередованием а//о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бъясните, в чём особенность правописания корней –гар-// -гор-,  -зар-//-зор- и других корней с чередованием а//о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ар-// -гор-,  -зар-//-зор-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ГОР  (угореть, погорелец, подгореть, загорелый,загорать, горение, но загАр, угАрный, пригАр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ЗАР  (заря, зарница, заревой, озарять, озарение, но зОрька, зОри)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 u="sng">
                <a:solidFill>
                  <a:srgbClr val="10253f"/>
                </a:solidFill>
                <a:uFillTx/>
                <a:latin typeface="Times New Roman"/>
              </a:rPr>
              <a:t>Исключения: 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зарево, выгарки, пригарь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клан-// -клон-,  -твар-//-твор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собенность правописа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в безударном положении пишется О  (наклонять, склонение, поклониться, творец, творение, сотворить)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–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лав-// -плов-,  -равн-//-ровн-, -мак-//-мок-, -скак-//-скоч-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Заголовок 1" descr=""/>
          <p:cNvPicPr/>
          <p:nvPr/>
        </p:nvPicPr>
        <p:blipFill>
          <a:blip r:embed="rId1"/>
          <a:stretch/>
        </p:blipFill>
        <p:spPr>
          <a:xfrm>
            <a:off x="493560" y="49356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Рассмотрите репродукцию картины  А. К. Денисова-Уральского «Лесной пожар». Какие  чувства, по-вашему, хотел передать живописец? Какие художественные средства он для этого использовал?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головок 1" descr=""/>
          <p:cNvPicPr/>
          <p:nvPr/>
        </p:nvPicPr>
        <p:blipFill>
          <a:blip r:embed="rId1"/>
          <a:stretch/>
        </p:blipFill>
        <p:spPr>
          <a:xfrm>
            <a:off x="420840" y="493560"/>
            <a:ext cx="8242200" cy="12924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500040" y="1928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На своём полотне художник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Большую часть картины занимают 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Мы смотрим на это произведение, и нам хочется 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 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             </a:t>
            </a:r>
            <a:r>
              <a:rPr b="1" lang="ru-RU" sz="2200" spc="-1" strike="noStrike">
                <a:solidFill>
                  <a:srgbClr val="10253f"/>
                </a:solidFill>
                <a:latin typeface="Times New Roman"/>
              </a:rPr>
              <a:t>Художник своей картиной словно ______________________________________________________________________________________________</a:t>
            </a: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5400" spc="-1" strike="noStrike">
              <a:solidFill>
                <a:srgbClr val="4f81bd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71680" y="3071520"/>
            <a:ext cx="822960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опробуйте записать эпитеты к слову </a:t>
            </a:r>
            <a:r>
              <a:rPr b="1" i="1" lang="ru-RU" sz="4400" spc="-1" strike="noStrike">
                <a:solidFill>
                  <a:srgbClr val="10253f"/>
                </a:solidFill>
                <a:latin typeface="Times New Roman"/>
              </a:rPr>
              <a:t>огонь. </a:t>
            </a:r>
            <a:r>
              <a:rPr b="1" lang="ru-RU" sz="4400" spc="-1" strike="noStrike">
                <a:solidFill>
                  <a:srgbClr val="10253f"/>
                </a:solidFill>
                <a:latin typeface="Times New Roman"/>
              </a:rPr>
              <a:t>При выполнении задания обратитесь к словарику эпитетов.</a:t>
            </a: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ть 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ание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Угарный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ыг_реть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Разг_раться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Сг_реть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арь_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Обг_релый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ение_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Г_рнило_________________________________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10253f"/>
                </a:solidFill>
                <a:latin typeface="Times New Roman"/>
              </a:rPr>
              <a:t>Возг_реться_______________________________.</a:t>
            </a: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Заголовок 1" descr=""/>
          <p:cNvPicPr/>
          <p:nvPr/>
        </p:nvPicPr>
        <p:blipFill>
          <a:blip r:embed="rId1"/>
          <a:stretch/>
        </p:blipFill>
        <p:spPr>
          <a:xfrm>
            <a:off x="420840" y="706320"/>
            <a:ext cx="8242200" cy="12938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 txBox="1"/>
          <p:nvPr/>
        </p:nvSpPr>
        <p:spPr>
          <a:xfrm>
            <a:off x="50004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ённый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Оз_риться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З_ревой ___________________________________.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Под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Выж_гать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_гающий________________________________ 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жечь_____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Кто-то поджёг______________________________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7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Заголовок 1" descr=""/>
          <p:cNvPicPr/>
          <p:nvPr/>
        </p:nvPicPr>
        <p:blipFill>
          <a:blip r:embed="rId1"/>
          <a:stretch/>
        </p:blipFill>
        <p:spPr>
          <a:xfrm>
            <a:off x="208080" y="566640"/>
            <a:ext cx="4297320" cy="1805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5000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а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Угар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Разгора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горе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ар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бгорел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ение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Горнило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озгореться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857480" y="2356920"/>
            <a:ext cx="3857400" cy="42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ённы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Озариться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Заревой.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Под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Выжигат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игающий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жечь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Кто-то поджё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10253f"/>
                </a:solidFill>
                <a:latin typeface="Times New Roman"/>
              </a:rPr>
              <a:t>Совершить поджог</a:t>
            </a: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82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633240" y="2206800"/>
            <a:ext cx="8242560" cy="16268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13840" y="3071880"/>
            <a:ext cx="8572680" cy="35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0253f"/>
                </a:solidFill>
                <a:latin typeface="Times New Roman"/>
              </a:rPr>
              <a:t>        </a:t>
            </a:r>
            <a:endParaRPr b="1" lang="en-US" sz="18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1) повторить и обобщить сведения о русской орфографии как системе правил; 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300" spc="-1" strike="noStrike">
                <a:solidFill>
                  <a:srgbClr val="10253f"/>
                </a:solidFill>
                <a:latin typeface="Times New Roman"/>
              </a:rPr>
              <a:t>2) отрабатывать умение различать орфограммы «Безударная гласная в корне слова» и «Гласная в корне с чередованием а/о» и выбирать правильное написание.</a:t>
            </a: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3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1571760" y="5072040"/>
            <a:ext cx="460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Заголовок 1" descr=""/>
          <p:cNvPicPr/>
          <p:nvPr/>
        </p:nvPicPr>
        <p:blipFill>
          <a:blip r:embed="rId1"/>
          <a:stretch/>
        </p:blipFill>
        <p:spPr>
          <a:xfrm>
            <a:off x="633240" y="2139840"/>
            <a:ext cx="8242560" cy="18036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Заголовок 1" descr=""/>
          <p:cNvPicPr/>
          <p:nvPr/>
        </p:nvPicPr>
        <p:blipFill>
          <a:blip r:embed="rId1"/>
          <a:stretch/>
        </p:blipFill>
        <p:spPr>
          <a:xfrm>
            <a:off x="324000" y="2494080"/>
            <a:ext cx="8575560" cy="16207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 txBox="1"/>
          <p:nvPr/>
        </p:nvSpPr>
        <p:spPr>
          <a:xfrm>
            <a:off x="571680" y="3857760"/>
            <a:ext cx="822960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3» №21 стр.13;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4» №21 стр.13  + №22 стр.14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На «5» №21 стр.13  + №22 стр.14 + №26 стр.15;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оработайте в парах – вспомните правило правописание  корней с чередованием. Объясните, от чего зависит правописание слов с корнем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пишите соответствующие примеры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2"/>
          <a:srcRect l="18315" t="48829" r="75728" b="45315"/>
          <a:stretch/>
        </p:blipFill>
        <p:spPr>
          <a:xfrm>
            <a:off x="4929120" y="1857240"/>
            <a:ext cx="1357560" cy="10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493560" y="1279440"/>
            <a:ext cx="8242560" cy="1805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2643120"/>
            <a:ext cx="822960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равописание слов с корнем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зависит от буквенных сочетаний в корне: 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т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щ-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а-,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перед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с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пишется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о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сключения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Ростовщик Ростислав из Ростова 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посадил росток и создал отрасль</a:t>
            </a:r>
            <a:r>
              <a:rPr b="1" lang="ru-RU" sz="40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500040" y="3071880"/>
            <a:ext cx="822960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2. По фотографиям на с.14 составьте и запишите предложения, используя слова, которые имеют корень </a:t>
            </a:r>
            <a:r>
              <a:rPr b="1" i="1" lang="ru-RU" sz="3200" spc="-1" strike="noStrike">
                <a:solidFill>
                  <a:srgbClr val="10253f"/>
                </a:solidFill>
                <a:latin typeface="Times New Roman"/>
              </a:rPr>
              <a:t>-раст-//-ращ-//-рос-.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Употребите собственные имена существительные.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Заголовок 1" descr=""/>
          <p:cNvPicPr/>
          <p:nvPr/>
        </p:nvPicPr>
        <p:blipFill>
          <a:blip r:embed="rId1"/>
          <a:stretch/>
        </p:blipFill>
        <p:spPr>
          <a:xfrm>
            <a:off x="73080" y="1573200"/>
            <a:ext cx="8589960" cy="1792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285840" y="2571840"/>
            <a:ext cx="850104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1. Перечислите корни, правописание которых можно схематически объяснить так: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а       +  а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       </a:t>
            </a:r>
            <a:r>
              <a:rPr b="1" lang="ru-RU" sz="3200" spc="-1" strike="noStrike">
                <a:solidFill>
                  <a:srgbClr val="10253f"/>
                </a:solidFill>
                <a:latin typeface="Times New Roman"/>
              </a:rPr>
              <a:t>и       +  а        Запишите примеры, иллюстрирующие эти схемы. </a:t>
            </a: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10253f"/>
              </a:solidFill>
              <a:latin typeface="Times New Roman"/>
            </a:endParaRPr>
          </a:p>
        </p:txBody>
      </p:sp>
      <p:sp>
        <p:nvSpPr>
          <p:cNvPr id="55" name="Арка 4"/>
          <p:cNvSpPr/>
          <p:nvPr/>
        </p:nvSpPr>
        <p:spPr>
          <a:xfrm>
            <a:off x="928800" y="4714920"/>
            <a:ext cx="50004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Арка 5"/>
          <p:cNvSpPr/>
          <p:nvPr/>
        </p:nvSpPr>
        <p:spPr>
          <a:xfrm>
            <a:off x="928800" y="5286240"/>
            <a:ext cx="500040" cy="3574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Фигура, имеющая форму буквы L 6"/>
          <p:cNvSpPr/>
          <p:nvPr/>
        </p:nvSpPr>
        <p:spPr>
          <a:xfrm rot="8292600">
            <a:off x="2287080" y="4665240"/>
            <a:ext cx="425520" cy="3812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Фигура, имеющая форму буквы L 7"/>
          <p:cNvSpPr/>
          <p:nvPr/>
        </p:nvSpPr>
        <p:spPr>
          <a:xfrm rot="8292600">
            <a:off x="2358720" y="5308560"/>
            <a:ext cx="425520" cy="38088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..гать, расст..лить, забл..стеть, отп..рать, соч..тать, выт..рать, отб..ру, отч..тать, зам..рать,  к..саться, пол..гать, прил..гательное, к..сательная, сл..гать, сл..жение, к..снуться, выр..сший, р..стительный, переб..рёшься, отп..рать, д..рёшься, нач..нать, ум..реть, заб..ру, бл..стеть, разб..ритесь, зап..рать, выт..р, выж..чь, соч..тать, уп..реться, пож..мать, заб..рает, отд..рать, отт..реть, зам..реть,  переж..гать, бл..стательный, отч..тать, ст..лить, зан..мательный, заст..лать, сд..рать, соч..тать, заж..гание, рассч..тать, соб..ра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39480" indent="-339480" algn="just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головок 1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18097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213840" y="1428480"/>
            <a:ext cx="8729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	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из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рас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ся, по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при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ое, к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ательная, с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жение, к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о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нуться, пере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от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д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ёшься, на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у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у, бл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еть, разб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итесь, зап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вы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, выж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чь, уп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ся, по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ет, от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от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зам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еть,  пере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б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от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т</a:t>
            </a:r>
            <a:r>
              <a:rPr b="1" lang="ru-RU" sz="3000" spc="-1" strike="noStrike" u="sng">
                <a:solidFill>
                  <a:srgbClr val="0070c0"/>
                </a:solidFill>
                <a:uFillTx/>
                <a:latin typeface="Times New Roman"/>
              </a:rPr>
              <a:t>е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ить, зан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м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, зас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л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д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заж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г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ние, рассч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ь, соб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И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р</a:t>
            </a:r>
            <a:r>
              <a:rPr b="1" lang="ru-RU" sz="3000" spc="-1" strike="noStrike" u="sng">
                <a:solidFill>
                  <a:srgbClr val="c00000"/>
                </a:solidFill>
                <a:uFillTx/>
                <a:latin typeface="Times New Roman"/>
              </a:rPr>
              <a:t>А</a:t>
            </a:r>
            <a:r>
              <a:rPr b="1" lang="ru-RU" sz="3000" spc="-1" strike="noStrike">
                <a:solidFill>
                  <a:srgbClr val="10253f"/>
                </a:solidFill>
                <a:latin typeface="Times New Roman"/>
              </a:rPr>
              <a:t>тельный</a:t>
            </a: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0253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10253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1T14:06:07Z</dcterms:created>
  <dc:creator>Admin</dc:creator>
  <dc:description/>
  <cp:keywords/>
  <dc:language>en-US</dc:language>
  <cp:lastModifiedBy>gor</cp:lastModifiedBy>
  <dcterms:modified xsi:type="dcterms:W3CDTF">2012-07-21T08:19:35Z</dcterms:modified>
  <cp:revision>23</cp:revision>
  <dc:subject/>
  <dc:title>Правописание не с деепричастия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24688399991</vt:lpwstr>
  </property>
</Properties>
</file>